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F97-C839-43E2-AAFD-8AB139A9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B07-BDFF-473D-BA9D-BC81542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711-8830-4CB1-9D47-52CBC8E1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440-B79F-40EE-B60F-23C16278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20E-6F4B-4BBB-B231-DE098F3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F18-1975-4484-9758-1A74DE56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59B-357F-4DB2-9CC2-EC62142F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49B-9ADB-4957-A2E7-AA2FE1D5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EEB-0273-495A-9614-60D25FAA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C92-2CDF-4A13-9531-6ABB39B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953-3DC5-4538-AB0D-BA47969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FCC-A895-4DFF-AB69-1EED9DD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8AC5-FC7C-4B04-ACFF-74F757E9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this task? Assessment for learning? Assessment of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provide students feedback on this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record the information you 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information you get from completing this task to inform what you do nex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47:10Z</dcterms:created>
  <dc:creator>asiily</dc:creator>
  <dc:description/>
  <dc:language>en-US</dc:language>
  <cp:lastModifiedBy>asiily</cp:lastModifiedBy>
  <dcterms:modified xsi:type="dcterms:W3CDTF">2008-08-21T14:48:21Z</dcterms:modified>
  <cp:revision>1</cp:revision>
  <dc:subject/>
  <dc:title>Think about….</dc:title>
</cp:coreProperties>
</file>